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9A9-228A-4002-A916-EFF3D100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245-BFFA-4509-9B4B-6782256D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513-469C-49E0-9948-EA7CB6E4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AA4-F3C4-45A2-A325-3944E4C8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FFB-DB0D-4319-B720-7A7CDFDB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ABB-E674-4A8D-B3AA-AB54AA3D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B7D-79D5-405B-A320-74A65DC6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B26D-74B0-4CD1-8450-D5C8D9ED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EDD-AF61-4EE2-B741-0C4F218C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D1B-8944-416C-9613-2EE684B1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113-DA4E-4D4D-B151-7D97F007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728-02C3-431A-A67E-D092E60F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4713-268E-4D5C-A097-C8BB0294B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RELIGION IN ANCIEN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486040" y="2209680"/>
            <a:ext cx="3352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o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Laughing_buddha_statue_Buddha_gift_m"/>
          <p:cNvPicPr/>
          <p:nvPr/>
        </p:nvPicPr>
        <p:blipFill>
          <a:blip r:embed="rId1"/>
          <a:stretch/>
        </p:blipFill>
        <p:spPr>
          <a:xfrm>
            <a:off x="380880" y="12952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5715000" y="4495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this guy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ople can be reborn to achieve enlighte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dhists also believe in            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Karm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good/bad actions                               people perform in their                                        lifetime affect 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KarmaCop-311x322"/>
          <p:cNvPicPr/>
          <p:nvPr/>
        </p:nvPicPr>
        <p:blipFill>
          <a:blip r:embed="rId1"/>
          <a:stretch/>
        </p:blipFill>
        <p:spPr>
          <a:xfrm>
            <a:off x="5943600" y="3714840"/>
            <a:ext cx="29624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HINA &amp; BUDD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ring the Sui and Tang dynasties Buddhism grew and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nese missionaries spread Buddhism to Japan, Korea and other Asian is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fluenced art, literature an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ddhism was so important  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period from 400-845 is called the “Age of Buddh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alai-lama4"/>
          <p:cNvPicPr/>
          <p:nvPr/>
        </p:nvPicPr>
        <p:blipFill>
          <a:blip r:embed="rId1"/>
          <a:stretch/>
        </p:blipFill>
        <p:spPr>
          <a:xfrm>
            <a:off x="228600" y="304920"/>
            <a:ext cx="23241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UDDHISM IN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emperor  in the Tang dynasty tried to get rid of 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dhist books and temples were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t, Buddhis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ved on in China and blended with other reli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3280716"/>
          <p:cNvPicPr/>
          <p:nvPr/>
        </p:nvPicPr>
        <p:blipFill>
          <a:blip r:embed="rId1"/>
          <a:stretch/>
        </p:blipFill>
        <p:spPr>
          <a:xfrm>
            <a:off x="7086600" y="4248000"/>
            <a:ext cx="1762200" cy="238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338037420_b740ce3bf4"/>
          <p:cNvPicPr/>
          <p:nvPr/>
        </p:nvPicPr>
        <p:blipFill>
          <a:blip r:embed="rId2"/>
          <a:stretch/>
        </p:blipFill>
        <p:spPr>
          <a:xfrm>
            <a:off x="2514600" y="4800600"/>
            <a:ext cx="26100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ONFUC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00 B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y a man named Confuc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352320"/>
            <a:ext cx="464832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 hear and I forget. I see and I remember. I do and I understan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Wheresoever you go, go with all your hear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“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Have no friends not equal to yoursel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onfucius2"/>
          <p:cNvPicPr/>
          <p:nvPr/>
        </p:nvPicPr>
        <p:blipFill>
          <a:blip r:embed="rId1"/>
          <a:stretch/>
        </p:blipFill>
        <p:spPr>
          <a:xfrm>
            <a:off x="5867280" y="3200400"/>
            <a:ext cx="2570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WHY CONFUCIA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026800"/>
            <a:ext cx="8001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olars and historians liked Confucianism because they thought it would improve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ucius’ ideas lost influen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became popular again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na during the Song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this is called neo-Confucianis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neo=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-Confucianism blended ethics with spirit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onfucius_54"/>
          <p:cNvPicPr/>
          <p:nvPr/>
        </p:nvPicPr>
        <p:blipFill>
          <a:blip r:embed="rId1"/>
          <a:stretch/>
        </p:blipFill>
        <p:spPr>
          <a:xfrm>
            <a:off x="7315200" y="22860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ELIEFS IN CONFUCIA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ucius believed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thics, or proper behavior, for individuals and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should live their lives according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wo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 for others (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e behavior (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eryone has a role to play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young people should obey their elders and follow the rule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grandparent01"/>
          <p:cNvPicPr/>
          <p:nvPr/>
        </p:nvPicPr>
        <p:blipFill>
          <a:blip r:embed="rId1"/>
          <a:stretch/>
        </p:blipFill>
        <p:spPr>
          <a:xfrm>
            <a:off x="304920" y="2286000"/>
            <a:ext cx="1904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ONFUCIANISM &amp;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d a religious and government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ina created a bureaucracy of civil servants to work for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be a civil servant you had to pass a test on Confucianis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other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passed you became a scholar-of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lar-officials were admired for their smarts and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page 178 in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est"/>
          <p:cNvPicPr/>
          <p:nvPr/>
        </p:nvPicPr>
        <p:blipFill>
          <a:blip r:embed="rId1"/>
          <a:stretch/>
        </p:blipFill>
        <p:spPr>
          <a:xfrm>
            <a:off x="6705720" y="5181480"/>
            <a:ext cx="13716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of the following was NOT a way that Confucianism influenced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s on family and famil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ansion of manufacturing and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hasis on service to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educated government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ere the two principles that Confucius believed people should fo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as a scholar-offi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beliefs and practices that guide our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s a supreme being or G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explains what happens to us when we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what way do Confucianism and Buddhism diff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dhism stresses military charitable d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ucianism stresses ethical behavior and Buddhism stresses a spiritual outlook that promises escape from suff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dhism teaches people to value public service while Confucianism teaches that personal satisfaction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ucianism places high value on artistic talents and Buddhism teaches one to ignore 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Buddhism influence Chinese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CAN YOU PASS THE T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id people turn to Buddhism during the Period of Dis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YOU EVER SEEN THIS SYMBOL?  WHAT DO YOU THINK IT MEA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Yin_and_yang"/>
          <p:cNvPicPr/>
          <p:nvPr/>
        </p:nvPicPr>
        <p:blipFill>
          <a:blip r:embed="rId1"/>
          <a:stretch/>
        </p:blipFill>
        <p:spPr>
          <a:xfrm>
            <a:off x="2209680" y="2227320"/>
            <a:ext cx="44960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DAOISM (or Taois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h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ed by Lao Tsu in 600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ieve that the way to happiness is for people to learn to “go with the flo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ught everything had a lif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ing and Y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in= dark side- moon,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ang= light side- sun,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ng and Yang need to be bal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u was against too many rules and laws- he thought people should make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Yin_and_yang"/>
          <p:cNvPicPr/>
          <p:nvPr/>
        </p:nvPicPr>
        <p:blipFill>
          <a:blip r:embed="rId1"/>
          <a:stretch/>
        </p:blipFill>
        <p:spPr>
          <a:xfrm>
            <a:off x="6858000" y="304920"/>
            <a:ext cx="19051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UDD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00 B.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ared in India - spread to China during the Han dynasty (200s A.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ddhism is based on the teaching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ddhartha Gautama Budd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as an Indian prince who gave up the royal life in search of a good and pure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India6"/>
          <p:cNvPicPr/>
          <p:nvPr/>
        </p:nvPicPr>
        <p:blipFill>
          <a:blip r:embed="rId1"/>
          <a:stretch/>
        </p:blipFill>
        <p:spPr>
          <a:xfrm>
            <a:off x="6477120" y="2133720"/>
            <a:ext cx="2265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HOW BUDDHISM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spread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WHY BUDDH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ople in China were attracted to Buddhism during the Period of Dis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can remember what was happening during that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ople were troubled 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ddhism offered comfort by teaching that people could escape suffering and achiev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Zen%2520Buddhism"/>
          <p:cNvPicPr/>
          <p:nvPr/>
        </p:nvPicPr>
        <p:blipFill>
          <a:blip r:embed="rId1"/>
          <a:stretch/>
        </p:blipFill>
        <p:spPr>
          <a:xfrm>
            <a:off x="838080" y="380880"/>
            <a:ext cx="12384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UDDHIST 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dhis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ship in te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using a statue of Buddha, many temples were built in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Octogonal pavilion of Yuantong Si, a 1200 year old Tang dynasty Buddhist temple. Kunming, Yunnan, China"/>
          <p:cNvPicPr/>
          <p:nvPr/>
        </p:nvPicPr>
        <p:blipFill>
          <a:blip r:embed="rId1"/>
          <a:stretch/>
        </p:blipFill>
        <p:spPr>
          <a:xfrm>
            <a:off x="1905120" y="2590920"/>
            <a:ext cx="5486400" cy="376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2209680" y="6400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g dynast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BELIE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aches that suffering is unavoi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c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 suffering by reaching enlightenment- Nirv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llow the eight-fold path to reach 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Understanding, Right Thought, Right Speech, Right Action, Right Livelihood, Right Effor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Mindfulness and Right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rayer_flags_on_poon_hill"/>
          <p:cNvPicPr/>
          <p:nvPr/>
        </p:nvPicPr>
        <p:blipFill>
          <a:blip r:embed="rId1"/>
          <a:stretch/>
        </p:blipFill>
        <p:spPr>
          <a:xfrm>
            <a:off x="5867280" y="304920"/>
            <a:ext cx="30956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2:23:32Z</dcterms:created>
  <dc:creator>MS</dc:creator>
  <dc:description/>
  <dc:language>en-US</dc:language>
  <cp:lastModifiedBy>San Diego City Schools</cp:lastModifiedBy>
  <dcterms:modified xsi:type="dcterms:W3CDTF">2013-01-09T20:44:15Z</dcterms:modified>
  <cp:revision>34</cp:revision>
  <dc:subject/>
  <dc:title>RELIGION IN ANCIENT CHINA</dc:title>
</cp:coreProperties>
</file>